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Windows%20NT%20Logon%20Sound.wav" ContentType="audio/x-wav"/>
  <Override PartName="/ppt/media/projctor.wav" ContentType="audio/x-wav"/>
  <Override PartName="/ppt/media/camera.wav" ContentType="audio/x-wav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4B6-DB2E-4D58-AF0E-CE7CE8FC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E02-69B5-4DC3-8AC3-2640D49B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A55-6CD7-43EE-BFF7-CF1F2492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3E1-64FA-4EC8-8045-3CF243AD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FAA6-D6C0-4EA9-9EDB-5E7556FE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EFED-B141-4401-9CC0-7177A5DD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27C8-34EC-43D1-8EFD-8AF5348B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0CCA-5A9E-4555-94A4-D8A7FB87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160E-949F-4173-A51E-2DB3DB4C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5CCC-3941-4E10-9237-1784B5E4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7846-6B21-45E4-B7A1-580D042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D00-B0E3-4E18-A1E3-86B88346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9F90-AB33-4027-AE09-42D32D43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2C21-FB17-4810-949E-FAB2214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08B3-E1A3-45AE-AB91-AA209BD1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BFEA-86CA-4EEA-975C-A2C59E3D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F3C3-0E5F-4D10-8D94-BC3D51C1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706-2FF0-4534-ADD9-D631BA0E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B0D-7B1C-45CD-B596-1ABB1D5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ADD-0033-4398-BEB0-A14D2BA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9F7-C751-4530-8D75-68BD8C6E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6D8-C6EF-4AFC-99D3-553A74C7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3EA-F6C9-4AD4-AAFA-C9AEC3E8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08F-A8E7-4E5E-AD52-279F0E1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4F9-0BEC-4E6B-8884-A466FFA3B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5AC2-C0A5-4153-B208-685B318FA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ows%20NT%20Logon%20Sound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044720"/>
            <a:ext cx="7416720" cy="261288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221304"/>
                </a:solidFill>
                <a:latin typeface="Times New Roman"/>
              </a:rPr>
              <a:t>Macros, VBA et fonctions personnalisées en Excel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0160" y="5484960"/>
            <a:ext cx="6402600" cy="992160"/>
          </a:xfrm>
          <a:prstGeom prst="rect">
            <a:avLst/>
          </a:prstGeom>
          <a:noFill/>
          <a:ln w="47520">
            <a:solidFill>
              <a:srgbClr val="99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COMPUT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(Daniel DEVEAU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indows%20NT%20Logon%20Sou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773280"/>
            <a:ext cx="6248160" cy="531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760" y="0"/>
            <a:ext cx="8688240" cy="6859440"/>
          </a:xfrm>
          <a:custGeom>
            <a:avLst/>
            <a:gdLst>
              <a:gd name="textAreaLeft" fmla="*/ 444240 w 8688240"/>
              <a:gd name="textAreaRight" fmla="*/ 8244000 w 8688240"/>
              <a:gd name="textAreaTop" fmla="*/ 444240 h 6859440"/>
              <a:gd name="textAreaBottom" fmla="*/ 6415200 h 6859440"/>
            </a:gdLst>
            <a:ahLst/>
            <a:rect l="textAreaLeft" t="textAreaTop" r="textAreaRight" b="textAreaBottom"/>
            <a:pathLst>
              <a:path w="27358" h="21600">
                <a:moveTo>
                  <a:pt x="0" y="0"/>
                </a:moveTo>
                <a:lnTo>
                  <a:pt x="27358" y="0"/>
                </a:lnTo>
                <a:lnTo>
                  <a:pt x="27358" y="21600"/>
                </a:lnTo>
                <a:lnTo>
                  <a:pt x="0" y="21600"/>
                </a:lnTo>
                <a:close/>
              </a:path>
              <a:path fill="lightenLess" w="27358" h="21600">
                <a:moveTo>
                  <a:pt x="0" y="0"/>
                </a:moveTo>
                <a:lnTo>
                  <a:pt x="27358" y="0"/>
                </a:lnTo>
                <a:lnTo>
                  <a:pt x="25959" y="1400"/>
                </a:lnTo>
                <a:lnTo>
                  <a:pt x="1400" y="1400"/>
                </a:lnTo>
                <a:close/>
              </a:path>
              <a:path fill="darken" w="27358" h="21600">
                <a:moveTo>
                  <a:pt x="27358" y="0"/>
                </a:moveTo>
                <a:lnTo>
                  <a:pt x="27358" y="21600"/>
                </a:lnTo>
                <a:lnTo>
                  <a:pt x="25959" y="20200"/>
                </a:lnTo>
                <a:lnTo>
                  <a:pt x="25959" y="1400"/>
                </a:lnTo>
                <a:close/>
              </a:path>
              <a:path fill="darkenLess" w="27358" h="21600">
                <a:moveTo>
                  <a:pt x="27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9" y="20200"/>
                </a:lnTo>
                <a:close/>
              </a:path>
              <a:path fill="lighten" w="27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544680"/>
            <a:ext cx="7620120" cy="815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221304"/>
                </a:solidFill>
                <a:latin typeface="Times New Roman"/>
              </a:rPr>
              <a:t>Les Principales étap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908000"/>
            <a:ext cx="7620120" cy="3803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rmAutofit/>
          </a:bodyPr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nspection du document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Réalisation du formu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nitialisation des différents obje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990000"/>
                </a:solidFill>
                <a:latin typeface="Times New Roman"/>
              </a:rPr>
              <a:t>Etablissement des macros princip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mplémentation du formul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52480" y="1833480"/>
            <a:ext cx="6400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 Each monOption In grpLignes.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f monOption.Value = True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Affichage = monOption.Ca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xt mon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Vue monAffic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2860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544680"/>
            <a:ext cx="7620120" cy="815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221304"/>
                </a:solidFill>
                <a:latin typeface="Times New Roman"/>
              </a:rPr>
              <a:t>Les Principales étap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908000"/>
            <a:ext cx="7620120" cy="3803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rmAutofit/>
          </a:bodyPr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nspection du document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Réalisation du formu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nitialisation des différents obje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Etablissement des macros princip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990000"/>
                </a:solidFill>
                <a:latin typeface="Times New Roman"/>
              </a:rPr>
              <a:t>Implémentation du formul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1219320"/>
            <a:ext cx="77724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b MasquerMois(MoisDéb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t maRecherche = Rows(1).Find(What:=DateValue(MoisDébut),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ter:=Range("A1"),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f Not maRecherche Is Nothing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nge("C1", maRecherche.Offset(0, -1)).EntireColumn.Hidde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8686800" cy="6629400"/>
          </a:xfrm>
          <a:custGeom>
            <a:avLst/>
            <a:gdLst>
              <a:gd name="textAreaLeft" fmla="*/ 429480 w 8686800"/>
              <a:gd name="textAreaRight" fmla="*/ 8257320 w 868680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8303" h="21600">
                <a:moveTo>
                  <a:pt x="0" y="0"/>
                </a:moveTo>
                <a:lnTo>
                  <a:pt x="28303" y="0"/>
                </a:lnTo>
                <a:lnTo>
                  <a:pt x="28303" y="21600"/>
                </a:lnTo>
                <a:lnTo>
                  <a:pt x="0" y="21600"/>
                </a:lnTo>
                <a:close/>
              </a:path>
              <a:path fill="lightenLess" w="28303" h="21600">
                <a:moveTo>
                  <a:pt x="0" y="0"/>
                </a:moveTo>
                <a:lnTo>
                  <a:pt x="28303" y="0"/>
                </a:lnTo>
                <a:lnTo>
                  <a:pt x="26903" y="1400"/>
                </a:lnTo>
                <a:lnTo>
                  <a:pt x="1400" y="1400"/>
                </a:lnTo>
                <a:close/>
              </a:path>
              <a:path fill="darken" w="28303" h="21600">
                <a:moveTo>
                  <a:pt x="28303" y="0"/>
                </a:moveTo>
                <a:lnTo>
                  <a:pt x="28303" y="21600"/>
                </a:lnTo>
                <a:lnTo>
                  <a:pt x="26903" y="20200"/>
                </a:lnTo>
                <a:lnTo>
                  <a:pt x="26903" y="1400"/>
                </a:lnTo>
                <a:close/>
              </a:path>
              <a:path fill="darkenLess" w="28303" h="21600">
                <a:moveTo>
                  <a:pt x="28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03" y="20200"/>
                </a:lnTo>
                <a:close/>
              </a:path>
              <a:path fill="lighten" w="28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544680"/>
            <a:ext cx="7620120" cy="815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221304"/>
                </a:solidFill>
                <a:latin typeface="Times New Roman"/>
              </a:rPr>
              <a:t>Les Principales étap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08000"/>
            <a:ext cx="7620120" cy="3803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rmAutofit/>
          </a:bodyPr>
          <a:p>
            <a:pPr marL="290520" indent="-290520"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221304"/>
                </a:solidFill>
                <a:latin typeface="Times New Roman"/>
              </a:rPr>
              <a:t>Inspection du document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221304"/>
                </a:solidFill>
                <a:latin typeface="Times New Roman"/>
              </a:rPr>
              <a:t>Réalisation du formu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221304"/>
                </a:solidFill>
                <a:latin typeface="Times New Roman"/>
              </a:rPr>
              <a:t>Initialisation des différents obje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221304"/>
                </a:solidFill>
                <a:latin typeface="Times New Roman"/>
              </a:rPr>
              <a:t>Etablissement des macros princip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221304"/>
                </a:solidFill>
                <a:latin typeface="Times New Roman"/>
              </a:rPr>
              <a:t>Implémentation du formul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544680"/>
            <a:ext cx="7620120" cy="815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221304"/>
                </a:solidFill>
                <a:latin typeface="Times New Roman"/>
              </a:rPr>
              <a:t>Les Principales étap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908000"/>
            <a:ext cx="7620120" cy="3803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rmAutofit/>
          </a:bodyPr>
          <a:p>
            <a:pPr marL="290520" indent="-29052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990000"/>
                </a:solidFill>
                <a:latin typeface="Times New Roman"/>
              </a:rPr>
              <a:t>Inspection du document principal</a:t>
            </a:r>
            <a:r>
              <a:rPr b="0" lang="fr-BE" sz="40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Réalisation du formu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nitialisation des différents obje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Etablissement des macros princip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mplémentation du formul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28600" y="2500200"/>
            <a:ext cx="7648560" cy="17528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09480" y="22860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544680"/>
            <a:ext cx="7620120" cy="815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221304"/>
                </a:solidFill>
                <a:latin typeface="Times New Roman"/>
              </a:rPr>
              <a:t>Les Principales étap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908000"/>
            <a:ext cx="7620120" cy="3803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rmAutofit/>
          </a:bodyPr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nspection du document principal</a:t>
            </a:r>
            <a:r>
              <a:rPr b="0" lang="fr-BE" sz="40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990000"/>
                </a:solidFill>
                <a:latin typeface="Times New Roman"/>
              </a:rPr>
              <a:t>Réalisation du formu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nitialisation des différents obje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Etablissement des macros princip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mplémentation du formul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819000"/>
            <a:ext cx="7010640" cy="5220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2120"/>
            <a:ext cx="8534520" cy="6629400"/>
          </a:xfrm>
          <a:custGeom>
            <a:avLst/>
            <a:gdLst>
              <a:gd name="textAreaLeft" fmla="*/ 429480 w 8534520"/>
              <a:gd name="textAreaRight" fmla="*/ 8105040 w 85345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458200" cy="6400800"/>
          </a:xfrm>
          <a:custGeom>
            <a:avLst/>
            <a:gdLst>
              <a:gd name="textAreaLeft" fmla="*/ 414720 w 8458200"/>
              <a:gd name="textAreaRight" fmla="*/ 8043480 w 8458200"/>
              <a:gd name="textAreaTop" fmla="*/ 414720 h 6400800"/>
              <a:gd name="textAreaBottom" fmla="*/ 5986080 h 6400800"/>
            </a:gdLst>
            <a:ahLst/>
            <a:rect l="textAreaLeft" t="textAreaTop" r="textAreaRight" b="textAreaBottom"/>
            <a:pathLst>
              <a:path w="28542" h="21600">
                <a:moveTo>
                  <a:pt x="0" y="0"/>
                </a:moveTo>
                <a:lnTo>
                  <a:pt x="28542" y="0"/>
                </a:lnTo>
                <a:lnTo>
                  <a:pt x="28542" y="21600"/>
                </a:lnTo>
                <a:lnTo>
                  <a:pt x="0" y="21600"/>
                </a:lnTo>
                <a:close/>
              </a:path>
              <a:path fill="lightenLess" w="28542" h="21600">
                <a:moveTo>
                  <a:pt x="0" y="0"/>
                </a:moveTo>
                <a:lnTo>
                  <a:pt x="28542" y="0"/>
                </a:lnTo>
                <a:lnTo>
                  <a:pt x="27143" y="1400"/>
                </a:lnTo>
                <a:lnTo>
                  <a:pt x="1400" y="1400"/>
                </a:lnTo>
                <a:close/>
              </a:path>
              <a:path fill="darken" w="28542" h="21600">
                <a:moveTo>
                  <a:pt x="28542" y="0"/>
                </a:moveTo>
                <a:lnTo>
                  <a:pt x="28542" y="21600"/>
                </a:lnTo>
                <a:lnTo>
                  <a:pt x="27143" y="20200"/>
                </a:lnTo>
                <a:lnTo>
                  <a:pt x="27143" y="1400"/>
                </a:lnTo>
                <a:close/>
              </a:path>
              <a:path fill="darkenLess" w="28542" h="21600">
                <a:moveTo>
                  <a:pt x="28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43" y="20200"/>
                </a:lnTo>
                <a:close/>
              </a:path>
              <a:path fill="lighten" w="28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544680"/>
            <a:ext cx="7620120" cy="815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221304"/>
                </a:solidFill>
                <a:latin typeface="Times New Roman"/>
              </a:rPr>
              <a:t>Les Principales étap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908000"/>
            <a:ext cx="7620120" cy="3803760"/>
          </a:xfrm>
          <a:prstGeom prst="rect">
            <a:avLst/>
          </a:prstGeom>
          <a:noFill/>
          <a:ln w="54000">
            <a:solidFill>
              <a:srgbClr val="993300"/>
            </a:solidFill>
            <a:miter/>
          </a:ln>
        </p:spPr>
        <p:txBody>
          <a:bodyPr anchor="ctr">
            <a:normAutofit/>
          </a:bodyPr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nspection du document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Réalisation du formu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990000"/>
                </a:solidFill>
                <a:latin typeface="Times New Roman"/>
              </a:rPr>
              <a:t>Initialisation des différents obje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Etablissement des macros princip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777777"/>
                </a:solidFill>
                <a:latin typeface="Times New Roman"/>
              </a:rPr>
              <a:t>Implémentation du formul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8800" y="888840"/>
            <a:ext cx="5486400" cy="5080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2749680"/>
            <a:ext cx="6248160" cy="1358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8:36:43Z</dcterms:created>
  <dc:creator>Daniel DEVEAUX</dc:creator>
  <dc:description/>
  <dc:language>en-US</dc:language>
  <cp:lastModifiedBy>Daniel DEVEAUX</cp:lastModifiedBy>
  <dcterms:modified xsi:type="dcterms:W3CDTF">2001-07-17T05:45:01Z</dcterms:modified>
  <cp:revision>13</cp:revision>
  <dc:subject/>
  <dc:title>Macros, VBA et fonctions personnalisées en Excel</dc:title>
</cp:coreProperties>
</file>